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404F509-B736-4222-9B01-903FAE04B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any protons, electrons, and neutrons are in an atom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protons, electrons, and neutrons are in an at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irconium (Zr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+, e-, 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ons = 4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ons = 4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utrons = 91-40 = 5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irconium (Z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+, e-,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=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=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91-40 = 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p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your periodic table to find an ele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your periodic table to find an e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p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mber of Protons (+ charg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tomic number = # prot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r has 36 prot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Protons (+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ic number = #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 has 36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p 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mber of Electrons (- charg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mber atoms have no overall char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oms must have an equal # of protons and electr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#protons=#electr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r has 36 electr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Electrons (-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atoms have no overall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must have an equal # of protons and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protons=#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 has 36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p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mber of Neutrons (no charg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ss # (atomic weight rounded to nearest whole #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utrons = Mass # - Prot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utrons = 84 – 3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utrons = 4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Neutrons (no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# (atomic weight rounded to nearest whole #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Mass # -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84 – 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ble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protons (p+), electrons (e-), neutrons (n) of Oxyg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p+, e-, n of Xenon (X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p+, e-, n of Zirconium (Zr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protons (p+), electrons (e-), neutrons (n)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p+, e-, n of Xenon (X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p+, e-, n of Zirconium (Z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xygen (O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+, e-, 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ons = 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ons = 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utrons = 16-8 = 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(O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+, e-,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16-8 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enon (Xe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+, e-, n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ons = 5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ons = 5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utrons = 131-54 = 77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enon (Xe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+, e-, 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= 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= 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131-54 = 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E9BA-CB72-414A-93A1-9B940BBEF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385A-9B0E-4D07-9757-A07D3762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28E4-8A9A-4061-A4B3-557DE0D1E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4E9F-4048-4AA7-8B24-0C6A2A4A8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D11E-512A-4D2B-AFBA-7956F391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C4C7-C0EC-4E57-BB5D-1DBB1929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D90D-1A68-4D87-B41B-2BD2BFF7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51C2-FAEA-47B2-A0B8-BA9F0ABB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7CC1-D59F-4A87-AF4A-8AB9EBCB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B62E-A547-48FA-B3FE-9FB2A48E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496D-7C71-4339-957E-51D7BA42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C87B-06D3-4EEB-946B-9AB7EE45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548E-05A2-4A05-A4C7-E9F67E194E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ow many 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protons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, </a:t>
            </a: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electrons,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and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neutrons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are in an atom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9" name="Picture 7" descr="PTE"/>
          <p:cNvPicPr/>
          <p:nvPr/>
        </p:nvPicPr>
        <p:blipFill>
          <a:blip r:embed="rId1"/>
          <a:stretch/>
        </p:blipFill>
        <p:spPr>
          <a:xfrm>
            <a:off x="990720" y="1981080"/>
            <a:ext cx="6858000" cy="419112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Zirconium (Zr)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+, e-, 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Atomic #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Elec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Prot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eu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n-US" sz="3200" spc="-1" strike="noStrike">
                <a:solidFill>
                  <a:srgbClr val="66ff33"/>
                </a:solidFill>
                <a:latin typeface="Tahoma"/>
              </a:rPr>
              <a:t>Mass #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ons = 4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ons = 4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utrons = 91-40 = 5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ep 1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your periodic table to find an el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5" descr="Krypton's data from the Table of Elements"/>
          <p:cNvPicPr/>
          <p:nvPr/>
        </p:nvPicPr>
        <p:blipFill>
          <a:blip r:embed="rId1"/>
          <a:stretch/>
        </p:blipFill>
        <p:spPr>
          <a:xfrm>
            <a:off x="2590920" y="3200400"/>
            <a:ext cx="4724280" cy="25146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ep 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mber of Protons (+ charg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atomic number = # prot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Kr has 36 prot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7" descr="Krypton's data from the Table of Elements"/>
          <p:cNvPicPr/>
          <p:nvPr/>
        </p:nvPicPr>
        <p:blipFill>
          <a:blip r:embed="rId1"/>
          <a:stretch/>
        </p:blipFill>
        <p:spPr>
          <a:xfrm>
            <a:off x="1905120" y="3962520"/>
            <a:ext cx="5276880" cy="24858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ep 3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mber of </a:t>
            </a: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Electrons (- charg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member atoms have no overall char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oms must have an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qual # of protons and elec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#protons=#elec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Kr has 36 elec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5" descr="Krypton's data from the Table of Elements"/>
          <p:cNvPicPr/>
          <p:nvPr/>
        </p:nvPicPr>
        <p:blipFill>
          <a:blip r:embed="rId1"/>
          <a:stretch/>
        </p:blipFill>
        <p:spPr>
          <a:xfrm>
            <a:off x="4648320" y="3657600"/>
            <a:ext cx="4057560" cy="243828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ep 4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mber of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Neutrons (no charg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ahoma"/>
              </a:rPr>
              <a:t>Mass #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atomic weight rounded to nearest whole #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Neutrons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 Mass #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Neutrons</a:t>
            </a:r>
            <a:r>
              <a:rPr b="0" lang="en-US" sz="2800" spc="-1" strike="noStrike">
                <a:solidFill>
                  <a:srgbClr val="66ff33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en-US" sz="2800" spc="-1" strike="noStrike">
                <a:solidFill>
                  <a:srgbClr val="66ff33"/>
                </a:solidFill>
                <a:latin typeface="Tahoma"/>
              </a:rPr>
              <a:t> 84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Neutron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4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5" descr="Krypton's data from the Table of Elements"/>
          <p:cNvPicPr/>
          <p:nvPr/>
        </p:nvPicPr>
        <p:blipFill>
          <a:blip r:embed="rId1"/>
          <a:stretch/>
        </p:blipFill>
        <p:spPr>
          <a:xfrm>
            <a:off x="4419720" y="3733920"/>
            <a:ext cx="4514760" cy="243828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Atomic #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Elec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Prot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eu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n-US" sz="3200" spc="-1" strike="noStrike">
                <a:solidFill>
                  <a:srgbClr val="66ff33"/>
                </a:solidFill>
                <a:latin typeface="Tahoma"/>
              </a:rPr>
              <a:t>Mass #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blem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 the protons (p+), electrons (e-), neutrons (n) of Oxyg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 the p+, e-, n of Xenon (X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 the p+, e-, n of Zirconium (Z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Oxygen (O)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+, e-, 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Atomic #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Elec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Prot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eu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n-US" sz="3200" spc="-1" strike="noStrike">
                <a:solidFill>
                  <a:srgbClr val="66ff33"/>
                </a:solidFill>
                <a:latin typeface="Tahoma"/>
              </a:rPr>
              <a:t>Mass #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ons =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ons =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utrons = 16-8 =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Xenon (Xe)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+, e-, n 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Atomic #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Elec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Prot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eu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n-US" sz="3200" spc="-1" strike="noStrike">
                <a:solidFill>
                  <a:srgbClr val="66ff33"/>
                </a:solidFill>
                <a:latin typeface="Tahoma"/>
              </a:rPr>
              <a:t>Mass #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ons = 5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ons = 5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utrons = 131-54 = 7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9:30:38Z</dcterms:created>
  <dc:creator>Myriah Welch</dc:creator>
  <dc:description/>
  <dc:language>en-US</dc:language>
  <cp:lastModifiedBy>LEGION</cp:lastModifiedBy>
  <dcterms:modified xsi:type="dcterms:W3CDTF">2017-01-26T09:31:48Z</dcterms:modified>
  <cp:revision>4</cp:revision>
  <dc:subject/>
  <dc:title>How many protons, electrons, and neutrons are in an atom?</dc:title>
</cp:coreProperties>
</file>